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AFF-E7A2-4A1A-8D12-B5CADEE4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77B-D48A-4BFF-8203-19E92E5A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91E-7ADA-4B8F-8816-325C4CD3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548-8503-4E66-80CB-4DC54848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3E6-3878-4BD8-97F5-BFBCB53F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EB4-AEDB-4B8E-A474-D6D42C79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3AA-7D40-4E5E-94DE-F48587A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0F5-D6EC-4E90-A69A-DEC07E81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A67-5D14-452C-ABAC-7343D7B8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575-AB07-47E0-A5F9-05C5B6A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A23-7E41-4701-9866-CC856D8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9D5-B908-4354-9763-F032ACE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18B4-E192-4B8C-AB2C-6AC313EB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 comidas de Mexico son difererente de Estados Uni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comida  de Mexico esta bueno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ales, tacos, enchiladas, chiles jalapeño ,picot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11640" y="2306520"/>
            <a:ext cx="3111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s animales de Mexico fuer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 Mexico ay muchos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y perros, gatos, bacas, chivos , y cavall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38720" y="1719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da33"/>
                </a:solidFill>
                <a:latin typeface="Arial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9:09Z</dcterms:created>
  <dc:creator>WSFCS Workstation</dc:creator>
  <dc:description/>
  <dc:language>en-US</dc:language>
  <cp:lastModifiedBy>WSFCS Workstation</cp:lastModifiedBy>
  <dcterms:modified xsi:type="dcterms:W3CDTF">2010-04-26T18:57:42Z</dcterms:modified>
  <cp:revision>2</cp:revision>
  <dc:subject/>
  <dc:title>Comidas</dc:title>
</cp:coreProperties>
</file>